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DD09A-65E1-476C-AF90-7A8C08CA4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37EAA-ADF4-4BE1-8E4D-CB52E4F20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DCD16-518A-484C-97CA-4F3C63A56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2767A-5749-4A87-82B6-584F6D4AD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73EAA-0C1F-4A98-89A9-F15D916FE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2003D-F63F-491E-BC59-49C1D8826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015B7-5C4A-47EE-99CD-5C8B6BE1B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9B008-52E9-4624-A548-4D95791DF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E7920-2584-42D2-B013-128B7B8F7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8D5C4-E1B9-4A60-BC6E-297EBE9F8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7B121-7A91-4DFA-9597-A01B76A2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01664-F283-4DE1-BDE8-4842C872C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4D1B6-4AFF-4866-908D-A6B1680E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79836-FE81-49CE-AAD0-47F3BE99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154FD-9036-4CA3-9228-73911C060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5D3E2-0281-4735-BC28-33740C646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BD8AC-A8D7-4B77-90D0-D1A7E5D89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C8729-E7A5-4B9C-8711-A943B0EC7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B34DB-669C-479C-86FC-20A332F68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7ECA3-3FCB-450C-B9B4-3D554C979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8AA4B-E43A-449E-A9B1-0F55DEBAA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7071D-F493-40D5-987D-6C72756D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63BF6-B525-455E-9AB3-6027D3F5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AAC9B-ACEE-47CF-9001-D5F123F9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0D99D-7A4B-4315-85E2-CD3EE157402A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19B28-A7F2-4C1A-8D50-8A1C555742A1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144864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367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Бог твой говори: Жив Съм Аз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а грешника не искам смърт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[: Желанието ми всеки час е да живее с Мен навек!:]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252360" y="1752840"/>
            <a:ext cx="9577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. Помни, човече, тази реч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е се отчайвай, но стани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[:О, насърчи се, като с меч ти край тури на всеки грях!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252360" y="1752840"/>
            <a:ext cx="9577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3. Не казвай: „Има време ощ!"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ега, сега покай се ти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[:че утре може да е нощ, за тебе късно мож' да е!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252360" y="1752840"/>
            <a:ext cx="9577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4. Христе Исусе, Боже мой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да се предам Теб още днес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[:Ти помогни и с Твой покой сърце, душа ми изпълни!:]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4-17T14:45:17Z</dcterms:modified>
  <cp:revision>95</cp:revision>
  <dc:subject/>
  <dc:title>Slide 1</dc:title>
</cp:coreProperties>
</file>